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49651-EB10-44BB-9EE1-32788C3CA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F0D74-1298-4C1F-89E5-1BCDFE817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D73BB-57B1-4C5A-9D9B-568FAA54C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39B87-E069-413F-9747-564BDD989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2428F-9B6F-4AC4-8488-C6F68CF79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94141-DFF8-48D9-8354-D2019F6EF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FAD08-E459-4691-A0E1-401514614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0882-1DCD-4865-96DA-6194975E8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15CC0-6968-4C27-8FB0-F95CF414D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EA287-E036-490C-B303-8F72854C9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4781C-0E05-413F-B130-BB693BC2D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388FF-8DF6-4175-94A7-A98ECCE46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aris" descr=""/>
          <p:cNvPicPr/>
          <p:nvPr/>
        </p:nvPicPr>
        <p:blipFill>
          <a:blip r:embed="rId2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garis" descr=""/>
          <p:cNvPicPr/>
          <p:nvPr/>
        </p:nvPicPr>
        <p:blipFill>
          <a:blip r:embed="rId3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1932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1447920"/>
            <a:ext cx="9829800" cy="0"/>
          </a:xfrm>
          <a:prstGeom prst="line">
            <a:avLst/>
          </a:prstGeom>
          <a:ln w="15840">
            <a:solidFill>
              <a:srgbClr val="336699"/>
            </a:solidFill>
            <a:miter/>
            <a:headEnd len="lg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gital" descr=""/>
          <p:cNvPicPr/>
          <p:nvPr/>
        </p:nvPicPr>
        <p:blipFill>
          <a:blip r:embed="rId2"/>
          <a:stretch/>
        </p:blipFill>
        <p:spPr>
          <a:xfrm>
            <a:off x="5907240" y="414360"/>
            <a:ext cx="247644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445600" y="0"/>
            <a:ext cx="685800" cy="685800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garis" descr=""/>
          <p:cNvPicPr/>
          <p:nvPr/>
        </p:nvPicPr>
        <p:blipFill>
          <a:blip r:embed="rId3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garis" descr=""/>
          <p:cNvPicPr/>
          <p:nvPr/>
        </p:nvPicPr>
        <p:blipFill>
          <a:blip r:embed="rId4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057040"/>
            <a:ext cx="6399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990720" y="624852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anesha" descr=""/>
          <p:cNvPicPr/>
          <p:nvPr/>
        </p:nvPicPr>
        <p:blipFill>
          <a:blip r:embed="rId5"/>
          <a:stretch/>
        </p:blipFill>
        <p:spPr>
          <a:xfrm>
            <a:off x="8456760" y="5985000"/>
            <a:ext cx="685800" cy="819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5073480" y="476280"/>
            <a:ext cx="4057920" cy="398880"/>
            <a:chOff x="5073480" y="476280"/>
            <a:chExt cx="4057920" cy="398880"/>
          </a:xfrm>
        </p:grpSpPr>
        <p:sp>
          <p:nvSpPr>
            <p:cNvPr id="52" name=""/>
            <p:cNvSpPr/>
            <p:nvPr/>
          </p:nvSpPr>
          <p:spPr>
            <a:xfrm>
              <a:off x="5073480" y="476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92560" y="762120"/>
              <a:ext cx="40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embers.hotbot.com/" TargetMode="External"/><Relationship Id="rId2" Type="http://schemas.openxmlformats.org/officeDocument/2006/relationships/hyperlink" Target="http://members.hotbot.com/" TargetMode="External"/><Relationship Id="rId3" Type="http://schemas.openxmlformats.org/officeDocument/2006/relationships/hyperlink" Target="http://members.hotbot.com/" TargetMode="External"/><Relationship Id="rId4" Type="http://schemas.openxmlformats.org/officeDocument/2006/relationships/hyperlink" Target="http://members.hotbot.com/" TargetMode="External"/><Relationship Id="rId5" Type="http://schemas.openxmlformats.org/officeDocument/2006/relationships/hyperlink" Target="http://members.hotbot.com/" TargetMode="External"/><Relationship Id="rId6" Type="http://schemas.openxmlformats.org/officeDocument/2006/relationships/hyperlink" Target="http://members.hotbot.com/" TargetMode="External"/><Relationship Id="rId7" Type="http://schemas.openxmlformats.org/officeDocument/2006/relationships/hyperlink" Target="http://members.hotbot.com/" TargetMode="External"/><Relationship Id="rId8" Type="http://schemas.openxmlformats.org/officeDocument/2006/relationships/hyperlink" Target="http://members.hotbot.com/" TargetMode="External"/><Relationship Id="rId9" Type="http://schemas.openxmlformats.org/officeDocument/2006/relationships/hyperlink" Target="http://members.hotbot.com/" TargetMode="External"/><Relationship Id="rId10" Type="http://schemas.openxmlformats.org/officeDocument/2006/relationships/hyperlink" Target="http://members.hotbot.com/" TargetMode="External"/><Relationship Id="rId11" Type="http://schemas.openxmlformats.org/officeDocument/2006/relationships/hyperlink" Target="http://members.hotbot.com/" TargetMode="External"/><Relationship Id="rId12" Type="http://schemas.openxmlformats.org/officeDocument/2006/relationships/hyperlink" Target="http://members.hotbot.com/" TargetMode="External"/><Relationship Id="rId13" Type="http://schemas.openxmlformats.org/officeDocument/2006/relationships/hyperlink" Target="http://members.hotbot.com/" TargetMode="External"/><Relationship Id="rId14" Type="http://schemas.openxmlformats.org/officeDocument/2006/relationships/hyperlink" Target="http://members.hotbot.com/" TargetMode="Externa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6705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Internet dan Perpustakaan di ITB 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eh: Ismail Fahm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mail@netmon.itb.ac.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rah pengembangan IT PP ITB</a:t>
            </a:r>
            <a:br>
              <a:rPr sz="4400"/>
            </a:b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angun SISTEM Perpustakaan Elektroni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braryAuto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gital Libr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ing together collections, services, peo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life cycle of creation, dissemination, use, and preservation of data, information and knowled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ibrary Automatio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ukung otomasi pelayanan perpustaka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-modu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Circ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Catalog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Autho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Keyword and Boolean Search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Reserve Room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Serials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2"/>
              </a:rPr>
              <a:t>Statistics Report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4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gital Librar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kan hanya koleksi dig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i perpaduan antara koleksi, layanan dan SDM dalam sebuah life cycle penciptaan, penyebaran, penggunaan, dan pengelolaan data, informasi dan pengetahu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si, proses kerja, laya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le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maging Proc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16002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1: Strategi Analisis &amp; Ind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2767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3: 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1148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4: QC &amp; Re-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9528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5: Image processing &amp; 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4382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2: Persiap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57913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6: O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trate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kus pada peningkatan skill SD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-training dan mag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knolog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ly used technology at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develope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, more for human skill enhancement, not for tools (compared with other solu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, fund rising from services off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pat dan murah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anan hosting buat perpustakaan la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S/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agram Perpustakaan Elektroni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4419720"/>
            <a:ext cx="160020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4419720"/>
            <a:ext cx="167616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352680"/>
            <a:ext cx="388620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rary Auto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3352680"/>
            <a:ext cx="396216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ita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39625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396252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881800">
            <a:off x="4657320" y="3822840"/>
            <a:ext cx="304920" cy="990360"/>
          </a:xfrm>
          <a:prstGeom prst="upDownArrow">
            <a:avLst>
              <a:gd name="adj1" fmla="val 50000"/>
              <a:gd name="adj2" fmla="val 64658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25909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2057400"/>
            <a:ext cx="22096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 Auto.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2057400"/>
            <a:ext cx="22860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Lib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lternatif Teknolo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960" y="472428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22040" y="472428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22040" y="34290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2040" y="20574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960" y="34290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960" y="20574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840" y="4724280"/>
            <a:ext cx="9946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3429000"/>
            <a:ext cx="358164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057400"/>
            <a:ext cx="18288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51040" y="4724280"/>
            <a:ext cx="114552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s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70000" y="4724280"/>
            <a:ext cx="13312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2057400"/>
            <a:ext cx="16002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56037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 Free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Perbanding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VTLS, Dyn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523880"/>
            <a:ext cx="25909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1523880"/>
            <a:ext cx="19051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5909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racle, Ms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0481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ySQL (fr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21337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engka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5909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30481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866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urah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9560" y="423540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ternatif lain Free version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acle for Linu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Why failed?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a yang menyebabkan kegagalan implementasi si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DM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as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mahal (dalam $U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lebih banyak untuk hardware da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tergantungan pada expatriat atau konsul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 solusi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ekan low cost teknologi, dan mengalihkan budget untuk meningkatkan kemampuan S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ow cost technolog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4952880"/>
            <a:ext cx="320040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572000"/>
            <a:ext cx="32004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352680"/>
            <a:ext cx="1523880" cy="6098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2133720"/>
            <a:ext cx="1600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Windows 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2133720"/>
            <a:ext cx="14475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2666880"/>
            <a:ext cx="304920" cy="2286000"/>
          </a:xfrm>
          <a:prstGeom prst="upDownArrow">
            <a:avLst>
              <a:gd name="adj1" fmla="val 50000"/>
              <a:gd name="adj2" fmla="val 14924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743200"/>
            <a:ext cx="304560" cy="457200"/>
          </a:xfrm>
          <a:prstGeom prst="upDownArrow">
            <a:avLst>
              <a:gd name="adj1" fmla="val 50000"/>
              <a:gd name="adj2" fmla="val 2988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4038480"/>
            <a:ext cx="304560" cy="762120"/>
          </a:xfrm>
          <a:prstGeom prst="upDownArrow">
            <a:avLst>
              <a:gd name="adj1" fmla="val 50000"/>
              <a:gd name="adj2" fmla="val 498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perpustakaan pusat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h pengembangan IT PP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ogres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MySQL versus Oracle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rbandingan kecepatan operasi relatif MySQL 3.22 versus Oracle 8.05 untuk suatu rangkaian proses tertentu:</a:t>
            </a:r>
            <a:br>
              <a:rPr sz="2400"/>
            </a:b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lihat http://www.mysql.com/benchmark-results/result-mysql,oracle-relative.htm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733920"/>
            <a:ext cx="60948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5334120"/>
            <a:ext cx="533520" cy="152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11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3.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3352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5638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3116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y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8840" y="571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32160" y="3733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La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oftware yang diguna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server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 FreeBSD atau Linux (database dan reposi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ell Netware (file &amp; application 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windows 3.11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windows 95 ke a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serv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: 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 engine: SWISH-E,WAIS/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: Apache + PHP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Costumized, menggunakan Delphi, browser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browser, photoshop, scanner, OCR, pdf 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Hardware yang dibutuh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uk server Unix maupun Novell, cukup (minim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Otoma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1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MB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perlu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a dengan server mi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ingkan jika server NT, menggunakan Oracle atau MsSQ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II/III dual processor 450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SCSI Hard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4572000"/>
            <a:ext cx="2971800" cy="304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362320"/>
            <a:ext cx="2971800" cy="304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2666880"/>
            <a:ext cx="297180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kill SDM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Autom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operasian software library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jari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filtering (librari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cataloging and ind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processing (Photoshop, OCR, pdf, d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organization (webma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g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ervic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Digital Librar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o Web 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Verdana"/>
              </a:rPr>
              <a:t>Kategori Informasi</a:t>
            </a:r>
            <a:endParaRPr b="1" lang="en-US" sz="36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Berdasarkan form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010280" y="6172200"/>
            <a:ext cx="1857600" cy="28584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744120" y="2743200"/>
            <a:ext cx="1421280" cy="1516320"/>
            <a:chOff x="744120" y="2743200"/>
            <a:chExt cx="1421280" cy="15163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933480" y="27432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44120" y="386064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okum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524680" y="4114800"/>
            <a:ext cx="1305360" cy="1999080"/>
            <a:chOff x="2524680" y="4114800"/>
            <a:chExt cx="1305360" cy="1999080"/>
          </a:xfrm>
        </p:grpSpPr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2635200" y="4114800"/>
              <a:ext cx="10746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524680" y="5410080"/>
              <a:ext cx="130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Gambar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Visu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785120" y="4038480"/>
            <a:ext cx="1646640" cy="1694160"/>
            <a:chOff x="4785120" y="4038480"/>
            <a:chExt cx="1646640" cy="1694160"/>
          </a:xfrm>
        </p:grpSpPr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064120" y="4038480"/>
              <a:ext cx="95256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785120" y="5333760"/>
              <a:ext cx="16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345000" y="2286000"/>
            <a:ext cx="1380240" cy="1846800"/>
            <a:chOff x="6345000" y="2286000"/>
            <a:chExt cx="1380240" cy="1846800"/>
          </a:xfrm>
        </p:grpSpPr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6642360" y="2286000"/>
              <a:ext cx="7714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345000" y="3429000"/>
              <a:ext cx="138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CDS/IS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 Progr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in dan implementasi software Otomasi dan Digital Library (integra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t management dan teknologi imag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ersiapkan modul training untuk pengembangan SDM di bidang Otomasi, Teknologi Imaging, dan Digital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ise layanan (setelah melewati testbed di PP ITB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mbangunan SISTEM perpustakaan elektronik (otomasi dan digital libr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&amp; ma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ferens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lib.itb.ac.id/isis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netmon.itb.ac.id/~is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op-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-network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3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onesia-pane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lib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Radio Packet (1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Leased Line (19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Satellite (1,5 M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Department of Electrical E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I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search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with radio pa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server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, ftp, go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, wavelan, ipv6, net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Learning, Virtual library, ISIS Network, Knowledge Management, publishing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:Education Networ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SP, for Edu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 institutions (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ggest Edunet (in Indonesi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driv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rg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i3-logo" descr=""/>
          <p:cNvPicPr/>
          <p:nvPr/>
        </p:nvPicPr>
        <p:blipFill>
          <a:blip r:embed="rId1"/>
          <a:stretch/>
        </p:blipFill>
        <p:spPr>
          <a:xfrm>
            <a:off x="4952880" y="1351080"/>
            <a:ext cx="333396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i3-itb" descr=""/>
          <p:cNvPicPr/>
          <p:nvPr/>
        </p:nvPicPr>
        <p:blipFill>
          <a:blip r:embed="rId1"/>
          <a:stretch/>
        </p:blipFill>
        <p:spPr>
          <a:xfrm>
            <a:off x="57240" y="171360"/>
            <a:ext cx="9029520" cy="6515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62160" y="6854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 Map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 Narrow"/>
              </a:rPr>
              <a:t>AI3 Indonesi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4956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ndon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5029200"/>
            <a:ext cx="1524240" cy="1523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523880"/>
            <a:ext cx="2514600" cy="2667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1600200"/>
            <a:ext cx="144792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895480"/>
            <a:ext cx="144756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289548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-One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nga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1240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vB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1676520" cy="175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TART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A*net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5638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00400" y="44193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3623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2209680"/>
            <a:ext cx="2209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30477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048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34320" y="1676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13240" y="1752480"/>
            <a:ext cx="181764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TransP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680" y="3038400"/>
            <a:ext cx="11653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u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857320" cy="1886040"/>
          </a:xfrm>
          <a:prstGeom prst="rect">
            <a:avLst/>
          </a:prstGeom>
          <a:ln w="0">
            <a:noFill/>
          </a:ln>
        </p:spPr>
      </p:pic>
      <p:pic>
        <p:nvPicPr>
          <p:cNvPr id="124" name="itb-isis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4233960" cy="3214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PP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poi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internet access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&amp; web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on Intern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Library Hom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ogue search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ib.itb.ac.id/search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Build Library Communit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i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jordomo@itb.ac.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’s body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cribe pustaka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about IT and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23353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02:53:27Z</dcterms:created>
  <dc:creator>Sakerah</dc:creator>
  <dc:description/>
  <dc:language>en-US</dc:language>
  <cp:lastModifiedBy>BPIP term-2</cp:lastModifiedBy>
  <dcterms:modified xsi:type="dcterms:W3CDTF">1999-09-23T04:12:50Z</dcterms:modified>
  <cp:revision>113</cp:revision>
  <dc:subject/>
  <dc:title>INTERNET: Apa dan bagaimana...</dc:title>
</cp:coreProperties>
</file>