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82CA-FF5E-482A-A5AF-A96701295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10E1-DC49-4669-9E54-B44D4AD3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88D1-0C2B-42A4-A273-D2EA5AA84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16C3-093D-42AA-9580-FFEAC30E5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BE81-EC7E-400D-AC5C-026FADD13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1C63-771E-4FBB-89E7-90D3216E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C3BA-B3B5-4FA1-A415-C6DDDF85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027E-4608-4A04-980E-016F54CE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3F73-B3CD-4787-9544-49EFB01E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14CF-6C7A-48A9-B3C7-22016C6B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5CDF-4C06-400B-A232-820FD560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73D1-8D4A-45F5-9C84-B8E8498E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325E-BBAF-4479-90AA-9EF13121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6BD8-76D6-422F-97DC-B880497C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F08E-7A8E-48EB-81C4-CB9AB918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B696-741D-455D-8FB4-DCC4816E1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5067-61C9-4042-A1C6-3CC5DDDCC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7F93-D531-4F39-AB9B-DE1E5239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B66E-3257-4CA2-B223-24E3AE09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5B30-7841-4718-8422-FE7206DB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174E-6461-4423-8A4A-137DEA08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BAE7-A334-4F64-8521-2CFC1F2F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016E-0BD8-465F-B1EC-0D8B260C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DDEB-D06A-4FC6-951D-56D72F60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BC91-DAB6-4E68-BABD-F1217D44E9D7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C137-788F-40A5-8045-645927E3C283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.wmf"/><Relationship Id="rId29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.wmf"/><Relationship Id="rId29" Type="http://schemas.openxmlformats.org/officeDocument/2006/relationships/image" Target="../media/image7.wmf"/><Relationship Id="rId3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wmf"/><Relationship Id="rId14" Type="http://schemas.openxmlformats.org/officeDocument/2006/relationships/image" Target="../media/image7.wmf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kmrg@kmrg.lib.itb.ac.id" TargetMode="External"/><Relationship Id="rId2" Type="http://schemas.openxmlformats.org/officeDocument/2006/relationships/hyperlink" Target="http://gdlhub.indonesiadln.org/" TargetMode="External"/><Relationship Id="rId3" Type="http://schemas.openxmlformats.org/officeDocument/2006/relationships/hyperlink" Target="http://gdl.itb.ac.id/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../../../AWeb/idln/launching/opening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IndonesiaDLN &amp; IsisOnline: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Jaringan Perpustakaan Digital dan Katalog Onli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 u="sng">
                <a:solidFill>
                  <a:srgbClr val="339966"/>
                </a:solidFill>
                <a:uFillTx/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teraksi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ividu </a:t>
            </a: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Intern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e01460_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1225800" cy="1524240"/>
          </a:xfrm>
          <a:prstGeom prst="rect">
            <a:avLst/>
          </a:prstGeom>
          <a:ln w="0">
            <a:noFill/>
          </a:ln>
        </p:spPr>
      </p:pic>
      <p:pic>
        <p:nvPicPr>
          <p:cNvPr id="122" name="bd06662_" descr=""/>
          <p:cNvPicPr/>
          <p:nvPr/>
        </p:nvPicPr>
        <p:blipFill>
          <a:blip r:embed="rId2"/>
          <a:stretch/>
        </p:blipFill>
        <p:spPr>
          <a:xfrm>
            <a:off x="5486400" y="3200400"/>
            <a:ext cx="1793880" cy="1587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944680" y="464832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02920" y="266688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lis, seb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50640" y="449568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a,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3352680"/>
            <a:ext cx="3429000" cy="228600"/>
          </a:xfrm>
          <a:prstGeom prst="rightArrow">
            <a:avLst>
              <a:gd name="adj1" fmla="val 50000"/>
              <a:gd name="adj2" fmla="val 3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4191120"/>
            <a:ext cx="3353040" cy="304560"/>
          </a:xfrm>
          <a:prstGeom prst="leftArrow">
            <a:avLst>
              <a:gd name="adj1" fmla="val 50000"/>
              <a:gd name="adj2" fmla="val 27523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41680" y="47242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70520" y="278280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33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55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60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73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89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91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3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196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8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200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214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220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241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243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245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256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258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7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8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272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274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75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76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7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278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7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80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1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282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283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293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294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304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305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315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316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326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27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337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338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348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349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352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355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361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362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372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373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383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384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394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97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418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21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42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Sharing &amp; Replik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448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449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50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2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2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3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65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466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75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6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1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482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483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484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5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486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487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88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9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9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0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512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1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523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2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545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4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580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9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591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0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602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05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7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0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9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1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1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1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3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1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5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16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7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18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9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20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1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22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3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24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25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626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29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30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1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32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33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637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643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648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32600" y="6211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863040" y="4114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472520" y="167652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655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Ak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678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680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9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90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691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693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2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3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707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709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10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11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12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713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5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717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718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721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724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30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734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738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739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49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0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751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52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5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54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755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799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0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1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02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03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4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81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842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4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846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847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850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853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859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863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4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865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6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67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68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869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870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8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880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881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9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891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9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3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895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9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7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si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aringan Digital Library Kesehat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"/>
          <p:cNvSpPr/>
          <p:nvPr/>
        </p:nvSpPr>
        <p:spPr>
          <a:xfrm>
            <a:off x="1066680" y="2590920"/>
            <a:ext cx="175284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tb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62120" y="3886200"/>
            <a:ext cx="198108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676520" y="5257800"/>
            <a:ext cx="220968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mah Sak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191120" y="5334120"/>
            <a:ext cx="220968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arte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733920" y="3429000"/>
            <a:ext cx="2361960" cy="7621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ealth DL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867280" y="1828800"/>
            <a:ext cx="2362320" cy="9907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DL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819520" y="3200400"/>
            <a:ext cx="838080" cy="3808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2819520" y="3962160"/>
            <a:ext cx="838080" cy="22860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3352680" y="4343400"/>
            <a:ext cx="533520" cy="8380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5028840" y="4419720"/>
            <a:ext cx="152280" cy="76176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5562720" y="2819520"/>
            <a:ext cx="533160" cy="3808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58000" y="4114800"/>
            <a:ext cx="2057400" cy="7621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172200" y="4114800"/>
            <a:ext cx="609480" cy="22860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7315200" y="2971800"/>
            <a:ext cx="228600" cy="99072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manfaatan Koleksi D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609480" y="2819520"/>
            <a:ext cx="1981440" cy="1752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bstrak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okume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udio, vid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4" name=""/>
          <p:cNvGraphicFramePr/>
          <p:nvPr/>
        </p:nvGraphicFramePr>
        <p:xfrm>
          <a:off x="5257800" y="2133720"/>
          <a:ext cx="8380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133720"/>
                    <a:ext cx="8380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6" name="en00500_" descr=""/>
          <p:cNvPicPr/>
          <p:nvPr/>
        </p:nvPicPr>
        <p:blipFill>
          <a:blip r:embed="rId3"/>
          <a:stretch/>
        </p:blipFill>
        <p:spPr>
          <a:xfrm>
            <a:off x="5105520" y="3276720"/>
            <a:ext cx="998280" cy="942840"/>
          </a:xfrm>
          <a:prstGeom prst="rect">
            <a:avLst/>
          </a:prstGeom>
          <a:ln w="0">
            <a:noFill/>
          </a:ln>
        </p:spPr>
      </p:pic>
      <p:pic>
        <p:nvPicPr>
          <p:cNvPr id="927" name="bs00559_" descr=""/>
          <p:cNvPicPr/>
          <p:nvPr/>
        </p:nvPicPr>
        <p:blipFill>
          <a:blip r:embed="rId4"/>
          <a:stretch/>
        </p:blipFill>
        <p:spPr>
          <a:xfrm>
            <a:off x="5105520" y="4572000"/>
            <a:ext cx="1077840" cy="87012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6250320" y="2133720"/>
            <a:ext cx="228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253560" y="3429000"/>
            <a:ext cx="263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254280" y="4648320"/>
            <a:ext cx="270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art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te publis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310800" y="560232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666880" y="2514600"/>
            <a:ext cx="2362320" cy="1143000"/>
          </a:xfrm>
          <a:custGeom>
            <a:avLst/>
            <a:gdLst/>
            <a:ahLst/>
            <a:rect l="l" t="t" r="r" b="b"/>
            <a:pathLst>
              <a:path w="1488" h="720">
                <a:moveTo>
                  <a:pt x="0" y="720"/>
                </a:moveTo>
                <a:lnTo>
                  <a:pt x="624" y="720"/>
                </a:lnTo>
                <a:lnTo>
                  <a:pt x="624" y="0"/>
                </a:lnTo>
                <a:lnTo>
                  <a:pt x="1488" y="0"/>
                </a:lnTo>
              </a:path>
            </a:pathLst>
          </a:custGeom>
          <a:noFill/>
          <a:ln w="57240">
            <a:solidFill>
              <a:srgbClr val="ff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666880" y="3809880"/>
            <a:ext cx="2362320" cy="0"/>
          </a:xfrm>
          <a:prstGeom prst="line">
            <a:avLst/>
          </a:prstGeom>
          <a:ln w="5724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2666880" y="3961800"/>
            <a:ext cx="2362320" cy="1143000"/>
          </a:xfrm>
          <a:custGeom>
            <a:avLst/>
            <a:gdLst/>
            <a:ahLst/>
            <a:rect l="l" t="t" r="r" b="b"/>
            <a:pathLst>
              <a:path w="1488" h="720">
                <a:moveTo>
                  <a:pt x="0" y="720"/>
                </a:moveTo>
                <a:lnTo>
                  <a:pt x="624" y="720"/>
                </a:lnTo>
                <a:lnTo>
                  <a:pt x="624" y="0"/>
                </a:lnTo>
                <a:lnTo>
                  <a:pt x="1488" y="0"/>
                </a:lnTo>
              </a:path>
            </a:pathLst>
          </a:custGeom>
          <a:noFill/>
          <a:ln w="57240">
            <a:solidFill>
              <a:srgbClr val="ff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nfaat bagi dunia kesehat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ledge base full content ttg kesehat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ukung penelitian na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si bagi masyarakat lu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itoring status kesehatan: past and pres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diksi masa dep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2668680" y="2286000"/>
            <a:ext cx="361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IsisOnlin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Library vs Katalog Online (BERBEDA 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Library = koleksi full resources (dokumen, audio, vide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talog Online = hanya database bibliografi sa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sisOnline: Katalog Onli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533520" y="2133720"/>
            <a:ext cx="1981080" cy="1752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Katalo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u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505320" y="3352680"/>
            <a:ext cx="1752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isOn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400800" y="2590920"/>
            <a:ext cx="1905120" cy="190476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2" name="bs00554_" descr=""/>
          <p:cNvPicPr/>
          <p:nvPr/>
        </p:nvPicPr>
        <p:blipFill>
          <a:blip r:embed="rId1"/>
          <a:stretch/>
        </p:blipFill>
        <p:spPr>
          <a:xfrm>
            <a:off x="914400" y="5029200"/>
            <a:ext cx="1301760" cy="113652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 flipV="1">
            <a:off x="1447920" y="4038120"/>
            <a:ext cx="0" cy="83844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666880" y="3809880"/>
            <a:ext cx="685800" cy="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5410080" y="3809880"/>
            <a:ext cx="914400" cy="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6" name="pe03166_" descr=""/>
          <p:cNvPicPr/>
          <p:nvPr/>
        </p:nvPicPr>
        <p:blipFill>
          <a:blip r:embed="rId2"/>
          <a:stretch/>
        </p:blipFill>
        <p:spPr>
          <a:xfrm>
            <a:off x="6934320" y="4419720"/>
            <a:ext cx="1100160" cy="116028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/>
          <p:nvPr/>
        </p:nvSpPr>
        <p:spPr>
          <a:xfrm>
            <a:off x="2133720" y="4470480"/>
            <a:ext cx="4647960" cy="1092240"/>
          </a:xfrm>
          <a:custGeom>
            <a:avLst/>
            <a:gdLst/>
            <a:ahLst/>
            <a:rect l="l" t="t" r="r" b="b"/>
            <a:pathLst>
              <a:path w="2928" h="688">
                <a:moveTo>
                  <a:pt x="0" y="688"/>
                </a:moveTo>
                <a:cubicBezTo>
                  <a:pt x="8" y="544"/>
                  <a:pt x="16" y="400"/>
                  <a:pt x="96" y="304"/>
                </a:cubicBezTo>
                <a:cubicBezTo>
                  <a:pt x="176" y="208"/>
                  <a:pt x="168" y="160"/>
                  <a:pt x="480" y="112"/>
                </a:cubicBezTo>
                <a:cubicBezTo>
                  <a:pt x="792" y="64"/>
                  <a:pt x="1560" y="32"/>
                  <a:pt x="1968" y="16"/>
                </a:cubicBezTo>
                <a:cubicBezTo>
                  <a:pt x="2376" y="0"/>
                  <a:pt x="2652" y="8"/>
                  <a:pt x="2928" y="16"/>
                </a:cubicBezTo>
              </a:path>
            </a:pathLst>
          </a:custGeom>
          <a:noFill/>
          <a:ln w="2844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formasi Lebih Jau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MRG IT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chnical 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sult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kmrg@kmrg.lib.itb.ac.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DL Hub: 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Tahoma"/>
                <a:hlinkClick r:id="rId2"/>
              </a:rPr>
              <a:t>http://gdlhub.indonesiaDLN.or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DL Homepage: 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Tahoma"/>
                <a:hlinkClick r:id="rId3"/>
              </a:rPr>
              <a:t>http://gdl.itb.ac.i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3352680" y="2971800"/>
            <a:ext cx="24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sebuah fil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a community of Indonesian people that share their own knowledg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ough a network of digital library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ward a better life (knowledge based society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we sha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losofi dasar: perjanjian primordial (Ali Imran 187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majuan penelitian/kehidupan hanya dicapai melalui saling berbagi ilmu pengetahu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ntutan: AFTA, Global Trade, dst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o they are?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ctur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i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ere they a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y in Indone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y abro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to sha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d’s painting (their first knowled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’s writ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cturer’s course materi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er’s research re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man’s tips of suc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onal potency and herit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Typ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al Project, Theses, Disser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earch Re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e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y Literatures, Arti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timed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our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boo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rit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7168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7010280" cy="62895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5410080"/>
            <a:ext cx="4495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Tahoma"/>
              </a:rPr>
              <a:t>Knowledge Cyc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3:26:14Z</dcterms:created>
  <dc:creator>Ismail Fahmi</dc:creator>
  <dc:description/>
  <dc:language>en-US</dc:language>
  <cp:lastModifiedBy>Ismail Fahmi</cp:lastModifiedBy>
  <dcterms:modified xsi:type="dcterms:W3CDTF">2001-06-26T15:09:33Z</dcterms:modified>
  <cp:revision>53</cp:revision>
  <dc:subject/>
  <dc:title>IndonesiaDLN: How It Works?</dc:title>
</cp:coreProperties>
</file>