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25.png" ContentType="image/png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2.wmf" ContentType="image/x-wmf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F414-ECEF-4403-9C73-68E81C65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03EE-B5AC-4755-B7B6-82218A5E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7E8A-3601-477E-90AA-4D23A66D1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7FD1-C927-408F-A16E-0A19DD748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F48E-799E-4C65-9BC1-95197EF7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4DFE-045F-43BF-9E46-61CA7596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75A6-EEB4-47E8-8E8B-A4811B9F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0B9F-ACFC-4CFF-A9B0-922214A8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DD65-C3EF-470C-803E-58078C68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4213-8AA3-4F3C-A05D-D17B3297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6A87-1742-4F34-9BFE-A52880D3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9C50-69E8-4D1E-97FB-DB10B5D4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4EF2-B48A-4206-BB8D-B5F4D1F7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FAC3-BA96-4A58-8782-E1774401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7C0C-481E-45A4-9CCB-C1E162F3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9A23-8CA1-4E0E-BFFF-96885275C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8FC4-F452-4405-B3DF-DC027513D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B726-4FA2-4C93-AE74-825A3AC0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25DA-C2F8-4303-8161-9A347C62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DB8D-CB81-48B1-94F5-01C80645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B2E6-F0D2-4F57-8A85-EEE924CD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B245-DBE4-4B86-A4EE-114D84A4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6500-ED1E-4552-9445-3789BA3A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E106-7F6F-472E-86F2-B458307D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3D67-9DE6-46AD-A2E1-E4D2553DB199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F612-CB7D-42C0-A803-F9738EE17C27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image" Target="../media/image17.wmf"/><Relationship Id="rId14" Type="http://schemas.openxmlformats.org/officeDocument/2006/relationships/image" Target="../media/image18.wmf"/><Relationship Id="rId15" Type="http://schemas.openxmlformats.org/officeDocument/2006/relationships/image" Target="../media/image19.wmf"/><Relationship Id="rId16" Type="http://schemas.openxmlformats.org/officeDocument/2006/relationships/image" Target="../media/image20.wmf"/><Relationship Id="rId1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image" Target="../media/image22.wmf"/><Relationship Id="rId30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wmf"/><Relationship Id="rId14" Type="http://schemas.openxmlformats.org/officeDocument/2006/relationships/image" Target="../media/image22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Indonesian Digital Library 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ismail@itb.ac.id</a:t>
            </a:r>
            <a:r>
              <a:rPr b="0" lang="en-US" sz="2400" spc="-1" strike="noStrike" u="sng">
                <a:solidFill>
                  <a:srgbClr val="339966"/>
                </a:solidFill>
                <a:uFillTx/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Tahoma"/>
              </a:rPr>
              <a:t>Presented at APAN Digital Library Tutorial Session, August 2001, Malaysia</a:t>
            </a:r>
            <a:endParaRPr b="0" lang="en-US" sz="18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Whe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tiative =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October 2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unching =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June 20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 Initiativ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 Bottom-up initiat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from the grass root (started from the university, library, and research institution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manag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shar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Indonesian knowledg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ough a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stribute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centraliz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igital library net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 Forum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onesiaDLN is a forum which discus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Metadata Standard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information exchang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cenario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 digital library network Indonesi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Partnershi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the community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ocializ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digital library program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ual Partner/Consortioum mee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whe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retariat at KMRG, ITB Central Libra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ecuted by a general secretary (Ismail Fahmi, 2000 – now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 site: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ling li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Area-technical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Area-scenario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Area-society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Idln-announcement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n join the mailing list, send blank email to 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[name-mailing-list]-subscribe@idln.itb.ac.i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networks within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is a “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network of digital library network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 in Indones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Network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DL-Network, using GDL (Ganesha Digital Library) software, developed by KMRG ITB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U-VL, using New Spektra software, developed by UK Petra Surabay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ther digital library network (heritage, agriculture, etc)… (future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Hub server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38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 Top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60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65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78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94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96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8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201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205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219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us of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“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fully operation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network =  GDL-Net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Spektra (NS) is in develop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t bed of the Metadata interoperabilit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GDL (bi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S (one 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GDL-Network Partne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1358640" y="14875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table-partner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7552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Distribution Map of GDL-Network Partne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map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7612200" cy="36795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358640" y="17161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s of 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er = users that have registered at GDL serv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ently the total members registered at GDL Hub is about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3028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us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cknowledge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Fund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RC, International Development Research Centre (Canada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LTI, Yayasan Litbang Telekomunikasi dan Informat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upport in-kin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pustakaan Pusat IT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3/ITB, Asian Internet Interconnection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NRG, Computer Network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MRG, Knowledge Management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Members of GDL-Network (by partner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1358640" y="17161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table-member" descr=""/>
          <p:cNvPicPr/>
          <p:nvPr/>
        </p:nvPicPr>
        <p:blipFill>
          <a:blip r:embed="rId1"/>
          <a:stretch/>
        </p:blipFill>
        <p:spPr>
          <a:xfrm>
            <a:off x="1295280" y="2666880"/>
            <a:ext cx="706464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of Members’ Count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table-country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6115320" cy="4892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42800" y="1639800"/>
            <a:ext cx="165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of Members’ Jo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table-jobs" descr=""/>
          <p:cNvPicPr/>
          <p:nvPr/>
        </p:nvPicPr>
        <p:blipFill>
          <a:blip r:embed="rId1"/>
          <a:stretch/>
        </p:blipFill>
        <p:spPr>
          <a:xfrm>
            <a:off x="4038480" y="1600200"/>
            <a:ext cx="4240440" cy="4354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358640" y="141120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of the Cont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3" name="table-types" descr=""/>
          <p:cNvPicPr/>
          <p:nvPr/>
        </p:nvPicPr>
        <p:blipFill>
          <a:blip r:embed="rId1"/>
          <a:stretch/>
        </p:blipFill>
        <p:spPr>
          <a:xfrm>
            <a:off x="3809880" y="1676520"/>
            <a:ext cx="4297320" cy="4663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282320" y="14875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305080" y="2844720"/>
            <a:ext cx="460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gether develop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Knowledgebase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bd06662_" descr=""/>
          <p:cNvPicPr/>
          <p:nvPr/>
        </p:nvPicPr>
        <p:blipFill>
          <a:blip r:embed="rId1"/>
          <a:stretch/>
        </p:blipFill>
        <p:spPr>
          <a:xfrm>
            <a:off x="2971800" y="2049480"/>
            <a:ext cx="3505320" cy="31021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17524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necting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5812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eople’s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581280" y="906480"/>
            <a:ext cx="2514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nowledge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905120" y="1897200"/>
            <a:ext cx="5029200" cy="3504600"/>
            <a:chOff x="1905120" y="1897200"/>
            <a:chExt cx="5029200" cy="3504600"/>
          </a:xfrm>
        </p:grpSpPr>
        <p:sp>
          <p:nvSpPr>
            <p:cNvPr id="251" name=""/>
            <p:cNvSpPr/>
            <p:nvPr/>
          </p:nvSpPr>
          <p:spPr>
            <a:xfrm>
              <a:off x="1981080" y="2049480"/>
              <a:ext cx="2286000" cy="10666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1905120" y="3725640"/>
              <a:ext cx="1981080" cy="2286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2209680" y="3954240"/>
              <a:ext cx="1828800" cy="14475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4571640" y="4030200"/>
              <a:ext cx="304920" cy="12956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5409720" y="3877920"/>
              <a:ext cx="1219320" cy="12193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410080" y="3573360"/>
              <a:ext cx="15242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5257440" y="1897200"/>
              <a:ext cx="1523880" cy="12189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36760" y="525600"/>
            <a:ext cx="1669680" cy="1870920"/>
            <a:chOff x="536760" y="525600"/>
            <a:chExt cx="1669680" cy="1870920"/>
          </a:xfrm>
        </p:grpSpPr>
        <p:pic>
          <p:nvPicPr>
            <p:cNvPr id="259" name="pe02043_" descr=""/>
            <p:cNvPicPr/>
            <p:nvPr/>
          </p:nvPicPr>
          <p:blipFill>
            <a:blip r:embed="rId8"/>
            <a:stretch/>
          </p:blipFill>
          <p:spPr>
            <a:xfrm>
              <a:off x="853920" y="525600"/>
              <a:ext cx="9918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36760" y="193680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re/Schoo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460800" y="2278080"/>
            <a:ext cx="1383840" cy="1718640"/>
            <a:chOff x="460800" y="2278080"/>
            <a:chExt cx="1383840" cy="1718640"/>
          </a:xfrm>
        </p:grpSpPr>
        <p:pic>
          <p:nvPicPr>
            <p:cNvPr id="262" name="pe02716_" descr=""/>
            <p:cNvPicPr/>
            <p:nvPr/>
          </p:nvPicPr>
          <p:blipFill>
            <a:blip r:embed="rId9"/>
            <a:stretch/>
          </p:blipFill>
          <p:spPr>
            <a:xfrm>
              <a:off x="549360" y="2278080"/>
              <a:ext cx="1295280" cy="12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460800" y="353700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dic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990720" y="5438880"/>
            <a:ext cx="1295280" cy="1413720"/>
            <a:chOff x="990720" y="5438880"/>
            <a:chExt cx="1295280" cy="1413720"/>
          </a:xfrm>
        </p:grpSpPr>
        <p:pic>
          <p:nvPicPr>
            <p:cNvPr id="265" name="bd06529_" descr=""/>
            <p:cNvPicPr/>
            <p:nvPr/>
          </p:nvPicPr>
          <p:blipFill>
            <a:blip r:embed="rId10"/>
            <a:stretch/>
          </p:blipFill>
          <p:spPr>
            <a:xfrm>
              <a:off x="990720" y="5438880"/>
              <a:ext cx="129528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357200" y="63928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por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040640" y="5362560"/>
            <a:ext cx="1383120" cy="1490040"/>
            <a:chOff x="4040640" y="5362560"/>
            <a:chExt cx="1383120" cy="1490040"/>
          </a:xfrm>
        </p:grpSpPr>
        <p:pic>
          <p:nvPicPr>
            <p:cNvPr id="268" name="pe01753_" descr=""/>
            <p:cNvPicPr/>
            <p:nvPr/>
          </p:nvPicPr>
          <p:blipFill>
            <a:blip r:embed="rId11"/>
            <a:stretch/>
          </p:blipFill>
          <p:spPr>
            <a:xfrm>
              <a:off x="4282920" y="5362560"/>
              <a:ext cx="8794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040640" y="639288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w/Go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769440" y="4869000"/>
            <a:ext cx="1838880" cy="1642320"/>
            <a:chOff x="6769440" y="4869000"/>
            <a:chExt cx="1838880" cy="1642320"/>
          </a:xfrm>
        </p:grpSpPr>
        <p:pic>
          <p:nvPicPr>
            <p:cNvPr id="271" name="pe07677_" descr=""/>
            <p:cNvPicPr/>
            <p:nvPr/>
          </p:nvPicPr>
          <p:blipFill>
            <a:blip r:embed="rId12"/>
            <a:stretch/>
          </p:blipFill>
          <p:spPr>
            <a:xfrm>
              <a:off x="6781680" y="4869000"/>
              <a:ext cx="12924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6769440" y="6051600"/>
              <a:ext cx="18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niv/Res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860160" y="1897200"/>
            <a:ext cx="2078280" cy="1374120"/>
            <a:chOff x="6860160" y="1897200"/>
            <a:chExt cx="2078280" cy="1374120"/>
          </a:xfrm>
        </p:grpSpPr>
        <p:pic>
          <p:nvPicPr>
            <p:cNvPr id="274" name="en00349_" descr=""/>
            <p:cNvPicPr/>
            <p:nvPr/>
          </p:nvPicPr>
          <p:blipFill>
            <a:blip r:embed="rId13"/>
            <a:stretch/>
          </p:blipFill>
          <p:spPr>
            <a:xfrm>
              <a:off x="7162920" y="1897200"/>
              <a:ext cx="160020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6860160" y="281160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ntertainm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095880" y="372960"/>
            <a:ext cx="1800000" cy="1602720"/>
            <a:chOff x="6095880" y="372960"/>
            <a:chExt cx="1800000" cy="1602720"/>
          </a:xfrm>
        </p:grpSpPr>
        <p:pic>
          <p:nvPicPr>
            <p:cNvPr id="277" name="pe01561_" descr=""/>
            <p:cNvPicPr/>
            <p:nvPr/>
          </p:nvPicPr>
          <p:blipFill>
            <a:blip r:embed="rId14"/>
            <a:stretch/>
          </p:blipFill>
          <p:spPr>
            <a:xfrm>
              <a:off x="6095880" y="372960"/>
              <a:ext cx="175896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6480720" y="1515960"/>
              <a:ext cx="14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usin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7320600" y="3268800"/>
            <a:ext cx="1278000" cy="1490040"/>
            <a:chOff x="7320600" y="3268800"/>
            <a:chExt cx="1278000" cy="1490040"/>
          </a:xfrm>
        </p:grpSpPr>
        <p:pic>
          <p:nvPicPr>
            <p:cNvPr id="280" name="kyai" descr=""/>
            <p:cNvPicPr/>
            <p:nvPr/>
          </p:nvPicPr>
          <p:blipFill>
            <a:blip r:embed="rId15"/>
            <a:stretch/>
          </p:blipFill>
          <p:spPr>
            <a:xfrm>
              <a:off x="7331040" y="3268800"/>
              <a:ext cx="109080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7320600" y="42991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li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31840" y="3954600"/>
            <a:ext cx="1636200" cy="1526400"/>
            <a:chOff x="231840" y="3954600"/>
            <a:chExt cx="1636200" cy="1526400"/>
          </a:xfrm>
        </p:grpSpPr>
        <p:pic>
          <p:nvPicPr>
            <p:cNvPr id="283" name="bd05158_" descr=""/>
            <p:cNvPicPr/>
            <p:nvPr/>
          </p:nvPicPr>
          <p:blipFill>
            <a:blip r:embed="rId16"/>
            <a:stretch/>
          </p:blipFill>
          <p:spPr>
            <a:xfrm>
              <a:off x="380880" y="3954600"/>
              <a:ext cx="1219320" cy="11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31840" y="5021280"/>
              <a:ext cx="163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194640" y="4038480"/>
            <a:ext cx="288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Knowledge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306240" y="2884320"/>
            <a:ext cx="23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289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310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312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3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4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325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327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6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7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341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343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344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45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347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4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49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351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352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362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363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373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374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384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395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96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406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407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417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418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421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424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430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431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441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442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452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453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463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66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6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487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90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495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cenario of Sharing &amp; Replication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517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518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9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1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1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2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4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535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4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5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8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50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551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52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53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555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556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57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8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559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8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570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581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603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2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614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625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638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649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8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660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671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74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6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8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7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0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8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2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8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4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8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6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8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8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8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0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91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2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93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94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695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98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9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0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70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702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706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712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717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332600" y="6211800"/>
            <a:ext cx="16848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863400" y="4114800"/>
            <a:ext cx="16848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472880" y="1676520"/>
            <a:ext cx="16848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724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cenario of Ac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747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59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760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1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762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1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2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776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778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7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80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81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782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8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4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786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787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790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793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99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803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807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808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7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818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9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820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21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2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23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824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868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6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0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7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72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4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7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6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3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us of IndonesiaDL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ic Philosoph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to joi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885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911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3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915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916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8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919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1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922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928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932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934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3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6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37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938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939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7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949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950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8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960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2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964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6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6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tion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1767960" y="2786040"/>
            <a:ext cx="533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a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Departmen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t IT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in GDL-Network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lternatives to join for 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Depart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ing 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existing GDL server (Central Library), http://digilib.itb.ac.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all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GDL server at Department, http://digilib.DEPT.itb.ac.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tory … [1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"/>
          <p:cNvSpPr/>
          <p:nvPr/>
        </p:nvSpPr>
        <p:spPr>
          <a:xfrm>
            <a:off x="1530720" y="1905120"/>
            <a:ext cx="389916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L = http://digilib.itb.ac.id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633680" y="2666880"/>
            <a:ext cx="288540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tic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urse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tance Lea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-Boo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ination Materi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pertise 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235480" y="2666880"/>
            <a:ext cx="244044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our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cee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b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search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1-Final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2-Master The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3-PhD Th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181480" y="4191120"/>
            <a:ext cx="243864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477120" y="5181480"/>
            <a:ext cx="182880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869" y="-14980"/>
                </a:moveTo>
                <a:lnTo>
                  <a:pt x="-900" y="2724"/>
                </a:lnTo>
              </a:path>
              <a:path w="21600" h="21600">
                <a:moveTo>
                  <a:pt x="-900" y="0"/>
                </a:moveTo>
                <a:lnTo>
                  <a:pt x="-9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xampl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1527840" y="5410080"/>
            <a:ext cx="43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oot Categor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tory … [2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520280" y="1952640"/>
            <a:ext cx="6999120" cy="398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632240" y="2666880"/>
            <a:ext cx="2856600" cy="13136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tronom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i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ectrical Engine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600200" y="2971800"/>
            <a:ext cx="16765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733920" y="4191120"/>
            <a:ext cx="40384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41" y="-21297"/>
                </a:moveTo>
                <a:lnTo>
                  <a:pt x="-408" y="2724"/>
                </a:lnTo>
              </a:path>
              <a:path w="21600" h="21600">
                <a:moveTo>
                  <a:pt x="-408" y="0"/>
                </a:moveTo>
                <a:lnTo>
                  <a:pt x="-40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xample , Sub-category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iology depar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528560" y="5410080"/>
            <a:ext cx="37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otry … [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1582560" y="2666880"/>
            <a:ext cx="861840" cy="1923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1600200" y="2971800"/>
            <a:ext cx="8380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276720" y="4191120"/>
            <a:ext cx="49528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21" y="-21297"/>
                </a:moveTo>
                <a:lnTo>
                  <a:pt x="-332" y="2724"/>
                </a:lnTo>
              </a:path>
              <a:path w="21600" h="21600">
                <a:moveTo>
                  <a:pt x="-332" y="0"/>
                </a:moveTo>
                <a:lnTo>
                  <a:pt x="-332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Koleksi Tesis Master Departemen Biologi tahun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1528560" y="541008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tory … [4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1998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0" name="" descr=""/>
          <p:cNvPicPr/>
          <p:nvPr/>
        </p:nvPicPr>
        <p:blipFill>
          <a:blip r:embed="rId1"/>
          <a:srcRect l="1187" t="23862" r="3998" b="4576"/>
          <a:stretch/>
        </p:blipFill>
        <p:spPr>
          <a:xfrm>
            <a:off x="1523880" y="2743200"/>
            <a:ext cx="6096240" cy="3429000"/>
          </a:xfrm>
          <a:prstGeom prst="rect">
            <a:avLst/>
          </a:prstGeom>
          <a:ln w="0">
            <a:noFill/>
          </a:ln>
        </p:spPr>
      </p:pic>
      <p:sp>
        <p:nvSpPr>
          <p:cNvPr id="1001" name=""/>
          <p:cNvSpPr/>
          <p:nvPr/>
        </p:nvSpPr>
        <p:spPr>
          <a:xfrm>
            <a:off x="1523880" y="2743200"/>
            <a:ext cx="5867640" cy="1447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5257800" y="5334120"/>
            <a:ext cx="28954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993" y="-53025"/>
                </a:moveTo>
                <a:lnTo>
                  <a:pt x="-568" y="5400"/>
                </a:lnTo>
              </a:path>
              <a:path w="21600" h="21600">
                <a:moveTo>
                  <a:pt x="-568" y="0"/>
                </a:moveTo>
                <a:lnTo>
                  <a:pt x="-56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e detai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" descr=""/>
          <p:cNvPicPr/>
          <p:nvPr/>
        </p:nvPicPr>
        <p:blipFill>
          <a:blip r:embed="rId1"/>
          <a:srcRect l="3707" t="11080" r="7269" b="4592"/>
          <a:stretch/>
        </p:blipFill>
        <p:spPr>
          <a:xfrm>
            <a:off x="2895480" y="457200"/>
            <a:ext cx="5715000" cy="5943600"/>
          </a:xfrm>
          <a:prstGeom prst="rect">
            <a:avLst/>
          </a:prstGeom>
          <a:ln w="0">
            <a:noFill/>
          </a:ln>
        </p:spPr>
      </p:pic>
      <p:sp>
        <p:nvSpPr>
          <p:cNvPr id="1004" name=""/>
          <p:cNvSpPr/>
          <p:nvPr/>
        </p:nvSpPr>
        <p:spPr>
          <a:xfrm>
            <a:off x="366480" y="57312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 of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048120" y="2743200"/>
            <a:ext cx="52578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28600" y="5029200"/>
            <a:ext cx="33526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773" y="-90975"/>
                </a:moveTo>
                <a:lnTo>
                  <a:pt x="22091" y="5400"/>
                </a:lnTo>
              </a:path>
              <a:path w="21600" h="21600">
                <a:moveTo>
                  <a:pt x="22091" y="0"/>
                </a:moveTo>
                <a:lnTo>
                  <a:pt x="22091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ownload full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stall GDL Server at Depart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GDL Software, download for free at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.itb.ac.id/downloa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or order CD-ROM to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kmrg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@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kmrg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.lib.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itb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ll the registration form and send to KMR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alla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free, install by department’s administra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chnical support, contact KMR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load the abstract and full content to department’s local server, and share to IndonesiaDLN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abstract from GDL-Hub server online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The GDL Headquarter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nk to partner’s knowledgebase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"/>
          <p:cNvSpPr/>
          <p:nvPr/>
        </p:nvSpPr>
        <p:spPr>
          <a:xfrm>
            <a:off x="675360" y="1716120"/>
            <a:ext cx="77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http://gdlhub.indonesiaDLN.org/go.php?top=/*Institutio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82880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2" name="gdlhub1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685800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s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Online Catalo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Different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containing electronic resources (document, audio, vide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Katalog Onl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only bibliographic data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ine catalog usually related to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ibrary Autom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</a:rPr>
              <a:t>Student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Can Joi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tep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ree registration to become a member, at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DLHUB,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r at other GDL Servers ( of partner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Upload &amp; share the abstract and full content of the paper, reports, theses, et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ember’s Personal Directory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</a:rPr>
              <a:t>http://[server]/go.php?top=/Member/email@your.com/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The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DL server will share them automatically to IndonesiDLN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ber’s contribution can be accessed widel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2802240" y="3063960"/>
            <a:ext cx="361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ture Pl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IndonesiaDLN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gital Heritage Networ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support the regional autonomy development, integrated with IndonesiaDL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mall and Medium Enterpri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SME) or Agricultural information network, integrated with IndonesiaDL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everag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knowledge assets from IndonesiaDLN using other media (CD-ROM, VCD, Multimedia, e-learning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national Collaboration: NDLTD, ADT, APAN,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581280" y="2743200"/>
            <a:ext cx="182880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1022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533520" y="4267080"/>
            <a:ext cx="1371600" cy="1143000"/>
            <a:chOff x="533520" y="4267080"/>
            <a:chExt cx="1371600" cy="1143000"/>
          </a:xfrm>
        </p:grpSpPr>
        <p:sp>
          <p:nvSpPr>
            <p:cNvPr id="1025" name=""/>
            <p:cNvSpPr/>
            <p:nvPr/>
          </p:nvSpPr>
          <p:spPr>
            <a:xfrm>
              <a:off x="533520" y="4267080"/>
              <a:ext cx="137160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uman Rights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3352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1028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E/Agri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1031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1034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715000" y="11430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410080" y="1905120"/>
            <a:ext cx="76212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mportant URL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web site; Mailing list; technical, scenario, society, announcement; standard, 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out GDL-Network, registration, join, software, patch, download, etc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/faqgdl.ph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GDL source code for free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.itb.ac.id/download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DL-HUB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al Library ITB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digi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act KMRG: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kmrg@kmrg.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/>
          <p:nvPr/>
        </p:nvSpPr>
        <p:spPr>
          <a:xfrm>
            <a:off x="2559240" y="2565360"/>
            <a:ext cx="373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The Indonesian “mother” network, a network of networks – The IndonesiaDLN, Indonesian Digital Library Net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Maria Ng Lee Hoon, Senior Regional Program Officer IDRC, Singapor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s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3434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181480" y="3657600"/>
            <a:ext cx="2819520" cy="1905120"/>
            <a:chOff x="5181480" y="3657600"/>
            <a:chExt cx="2819520" cy="1905120"/>
          </a:xfrm>
        </p:grpSpPr>
        <p:sp>
          <p:nvSpPr>
            <p:cNvPr id="114" name=""/>
            <p:cNvSpPr/>
            <p:nvPr/>
          </p:nvSpPr>
          <p:spPr>
            <a:xfrm>
              <a:off x="5181480" y="4343400"/>
              <a:ext cx="1905120" cy="121932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53080" y="3657600"/>
              <a:ext cx="1447920" cy="167652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86400" y="4419720"/>
              <a:ext cx="380880" cy="7596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55760" y="1809720"/>
            <a:ext cx="618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lock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CCES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the Indonesian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rateg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Network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through a national networked digital libra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stribut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every institutions can manage their own digital library 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Unifi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all knowledge will be unifi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sseminat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all knowledge will be disseminated (mirror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tandardiz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using international accepted metadata standard (Dublin Co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Ma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tion that will be collected and managed: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bstrac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ful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rom the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LOCA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di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earch re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al Project, Theses, Disser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cle, paper, proceeding, jour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book, e-learning material, course mate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pping, Heritage, Multimedia, expertise directory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Sourc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 instit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vern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group, TK, SD, SMP, 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santren, Mosque, Religion instit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tizen orga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1T23:50:29Z</dcterms:created>
  <dc:creator>Ismail Fahmi</dc:creator>
  <dc:description/>
  <dc:language>en-US</dc:language>
  <cp:lastModifiedBy>Ismail Fahmi</cp:lastModifiedBy>
  <dcterms:modified xsi:type="dcterms:W3CDTF">2001-08-09T09:02:21Z</dcterms:modified>
  <cp:revision>81</cp:revision>
  <dc:subject/>
  <dc:title>Digital Library Network dan  Riset Nasional</dc:title>
</cp:coreProperties>
</file>