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8C5-1C6D-4202-9823-B5C1856E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2A8-B0FC-4178-84A6-934125E1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8DE-BABB-4235-9576-DC1042ED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FEC6-58C1-4399-AC89-3E49C6E4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4913-62EE-4746-B602-D0955002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6C87-088F-40A8-9BFB-D77D5D11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D5CE-9021-46F6-BB68-D2B8E5BF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D444-205C-4BA5-8B28-82423D45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50E5-B4B3-4199-9749-A4F02840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8F38-2BFC-4F77-B565-E4B6A4A8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456C-7A20-44AF-917C-84A9B430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FB9-38DB-45FE-B592-9627B4A2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66B4-312B-4E73-9714-130BBCB9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D5E3-F0EE-4D28-8957-0AF3713C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AB83-DCE4-4446-AE55-34ED559F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B2DA-33CE-4082-A155-D1F13AFDC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B69A-4114-4A56-A6F2-51BF43B7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D42-6C9E-4D22-98D2-48978C56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6F9-45BF-4474-A451-0CFF7B95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F37-046C-4741-9D0C-40C18280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CAF-AD75-46AD-97C3-8FC96212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359-56F3-424C-87EC-155E1542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E30-6920-4358-989B-0FFB0F87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7DB-DC84-4102-82B3-7F566497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2422-0252-4225-8072-71A1603DCF6F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F35B-59D2-4D2D-9CCA-56A5E8436F0B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Area-technical@idln.itb.ac.id" TargetMode="External"/><Relationship Id="rId3" Type="http://schemas.openxmlformats.org/officeDocument/2006/relationships/hyperlink" Target="mailto:Area-scenario@idln.itb.ac.i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16.wmf"/><Relationship Id="rId3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donesiaDLN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Juli 2001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Kap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anang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k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uncur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i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isiati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isiative bottom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ari grass root (awalnya dari universitas, perpustakaan, dan lembaga riset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engelo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berbag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lmu pengetahuan bangsa Indonesi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lui sebuah jaringan digital library yang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distrib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s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um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 yang membah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pertukaran informas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kena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 digital library di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anggot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sialis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gram jaringan digit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emuan partner/konsorsium setiap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diman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kretariat di KMRG, Perpustakaan Pusat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mpin seorang sekjen (Ismail Fahmi, 2000 – sekara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mailing list, kirim email kosong k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a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-2 d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adal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di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Network, menggunakan software GDL (Ganesha Digital Library), dibuat KMRG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U-VL, menggunakan software New Spektra, dibuat oleh UK Petra Suraba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lain… (futur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b http://gdlhub.indonesiaDLN.or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ingan yang sud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dalam pengemba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jicoba interoperabilitas meta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= institusi, individu yang memiliki server digital library (GDL) dan bergabung ke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saat ini, terhubu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pustakaan Pus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t Biologi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ca Sarjana ITB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as Syah Kuala Banda Ace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2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utan, terhubu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Muhammadiyah Ma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dan Litbang Kesehatan Depkes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ina Nusant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Atmajaya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Sam Ratulangi Man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Haluoleo Kend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IN Yogyakar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Cendrawasih Irian Jay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M Dana Mitra Lingku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install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mbaga Pendidikan Al-Azhar J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daftar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hayangkara Surab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pemakai, pengguna, anggota yang mendaftar ke server-server GD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rdaftar di GDL Hub sekit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ang, sebagian besar dari Indonesia, dan sebagian dari Luar Nege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capan 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72320" y="2844720"/>
            <a:ext cx="46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sama-sama memban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38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46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49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52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55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58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61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64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67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70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7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97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30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2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34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6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3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4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6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7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8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8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9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9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0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0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1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2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2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3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5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7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8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04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05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38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40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42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4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58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1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3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5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7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1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82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85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9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93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99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04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1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34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47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63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65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7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69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73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74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80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86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90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94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5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07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8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9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7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98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02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15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19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21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25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36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47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51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207440" y="278604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gaiman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em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sa Bergabu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f Bergabung Bagi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anfa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PP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ndi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di Departe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anfaatkan Server GDL PP IT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untung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menyediakan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biaya instalasi dan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SDM Administrator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pat dimulai dengan Cep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an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njuk staff departemen yang akan menjadi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DI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ak Perpustakaan Pusat ITB untuk mendapatkan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aining Editor GD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gratis). Koordinasi, registrasi, dan akses ke GDL akan dilakukan selama Trai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ai upload abstrak dan full content dari departemen masing-ma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Bergab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8200" y="54100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Sub kateg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partemen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hat 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68280" y="573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ang server GDL sendiri di departe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oftware GDL, download free di http://gdl.itb.ac.id/download, atau pesan CD-ROM ke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 form registrasi untuk Institusi, kirim ke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send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butuh bantuan dan training, hubungi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abstrak dan full content ke server lokal, dan share ke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k dari knowledgebase IndonesiaDLN, secara otomati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er GDL 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elah Registr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apat Publisher ID,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JBPTITB**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iliki server sendiri dg alamat http://digilib.**.itb.ac.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**=EL, BI, MS,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iknya memiliki SDM Admin yang bisa mengelola server GDL Departemen untuk mainten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 perlu selalu koordinasi dengan KMRG ITB untuk maintenance dan troubleshoo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ke knowledgebase partner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gaimana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Mahasisw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sa Shar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angk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asi online &amp; free menjadi member 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HUB, http://gdlhub.indonesiaDLN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ke server digital library lokal (milik institusi/departem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&amp; share abstrak dan full content dari paper, laporan penelitian, dll An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Directory A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anda.com/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mudi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r otomatis akan menyebarkan ke IndonesiaDLN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ribusi Anda segera bisa di-AKSES secara lu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355480" y="3063960"/>
            <a:ext cx="44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cana IndonesiaD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ata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biasanya berhubungan deng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membantu otonomi daerah dan pemanfaatan budaya bang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dengan jaringan informasi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manfaatk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nowledgebase aset ilmu pengetahuan dan budaya bangsa di IndonesiaDLN dengan berbagai media kreatif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13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16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19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Network di du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LTD, Networked Digital Library of Theses and Dissertation, Virginia, member 80++ universitas di dunia, http://www.ndltd.or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T, Australian Digital Theses. Member 7 universitas besar di Australia, http://adt.caul.edu.a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, di Indonesia, didesain khusus untuk negara berkembang, http://gdlhub.indonesiaDLN.or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RL Pen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ng GDL, registrasi, bergabung, patch, download, dll, http://gdlhub.indonesiaDLN.org/faqgdl.ph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ak KMRG: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153160" y="256536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erima kasi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epas kunci/borgol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K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hadap kekayaan Ilmu Pengetahuan bangsa Indone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lalui sebuah jaringan digital library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tiap orang/institusi mengelola sendiri kekayaan intelektual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atu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ebar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nggunakan standard metadata inter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ber informasi yang akan dikelola dan disebarkan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ri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pu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 Penelit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gas Akhir, Tesis,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kel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, Heritage, Multimedia, direktori expert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neli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merint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asjid, Lembaga Keagam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asi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7-17T00:58:25Z</dcterms:modified>
  <cp:revision>75</cp:revision>
  <dc:subject/>
  <dc:title>Digital Library Network dan  Riset Nasional</dc:title>
</cp:coreProperties>
</file>